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12F51C-FB5F-4E57-BE95-039306FCC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AF9350-9C0C-491E-9FF3-A091FDBA5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E6AB8-6051-463E-83E9-64637F651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FB9-6B5F-4DEE-BD1F-2C915F58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A86-2148-4932-9C00-D5DB7CC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5AD-E4F9-4BED-88B6-31559C36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E9D-8D6C-4C27-B924-39B4A9FD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965-52A5-403E-A4DE-CA46D5C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1904-8562-4214-AFD2-EC2692D7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E6F4-34DB-4DA7-8E65-42DDA176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EEE0-3684-4BB3-B763-DC5C4478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5CC-8B62-47B0-B674-E3CE2031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0422-9DB0-4986-8FAD-897A5B6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16B-DB40-4FC9-B603-D9B50E4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D89-991B-4A66-A866-64704660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763E-641D-4C99-A96F-4F1DAB8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182-D02C-4BCD-8FE3-3F5DF87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594-DCD6-4CD9-97A6-DF37F476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F1DA-562C-4FBE-BFCA-973DC651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A1E-0FCB-4E9C-8E9F-77DCE96A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5872-8167-4866-B5BF-37FA1E9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30A9-5763-4850-8080-E656E7A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0F74-D486-4B87-93C4-0483F45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1966E-10DD-480B-BE13-499CDDA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1DDB-B2BC-4E91-89E2-450B0A0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5A7-B09B-4848-80B2-6257ABC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046E-1B40-46D8-A6F6-E868042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4660-2A56-4BBD-8C59-9A7EC5E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B9CB-4957-4DDE-BCCE-F856378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B9F0-78D5-4B9D-9D40-A552738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FB58-9984-4E01-85A5-AEBBA1C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EA68-FF57-4324-A206-D47457CA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3CCF-A984-40F2-BCA7-6817D183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9EB7-41BC-4238-8CAB-FB99E579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3602-3A97-45BB-9C23-55D8982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8A9A-73D7-4F18-B99D-43FA832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108-DE07-4648-A9E5-38F9D528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1102-128E-4204-84F6-B4412AD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D984-B8B5-4E50-A53B-262FAB4C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99F0-0799-4E54-9480-55AD627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CD4E-82EF-4943-B93D-E5CB1D2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91A5-6265-4D88-8C11-1337502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3A8C-4F67-4EE7-84AC-C3599E9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579F-AB63-4006-9094-AAF90F9D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60BD-F207-43EB-808B-5DFF5AD9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DC4A-4B40-49BB-BBAB-4C213407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360F-6473-4C00-BB8A-A7583798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B03-1D50-4E51-AF11-19B34FD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84BB-150D-4340-95A6-71AC863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9C1D-532D-4E6E-B849-8A402BE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0709-351E-4E38-9791-C739993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1DC6-DFA5-4C1E-B534-DB3E78B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8A07-CC43-4D9C-AE83-F5A3B6A4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65FF-D971-4BC8-B59E-CEB595C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C44F-7322-40D2-A158-D571625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1C4C-E0EE-4F4A-B136-A48DA1B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0B52-EF92-4A92-BF81-FB95FA68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117B-9BE8-4F8B-AAF0-CF43B6C4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ADB-1DE8-4851-B10C-1BCC941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82FE-C63C-4266-884D-1C30E637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6F43-8E0D-4D06-AE45-C43F2810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181F-94F1-48C1-A02E-015C0C2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8EBC-5DF4-4B13-BDA3-25F509A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376C3-43EF-492B-972E-DACB22F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6FA97-15A8-4754-9CCC-41C2DB1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84A6-2225-419F-84A3-D8F0E5C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DA1FF-C163-4DE4-BAA4-3D17FD60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F67D-AC56-4B8E-804F-017590E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6E89-F77D-4D7C-92B9-93FDEE1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34B-60D7-4A91-BC1E-00D179D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3F14-E871-4A1B-9794-2A51A629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46D10-C9BC-445E-8E7A-57DB31D5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938B-D581-4EB8-904E-D54BEFD3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909-1B75-4BC3-AE5E-90FD5CE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865-E12A-4888-BC4F-A009D25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E624F9-412E-41B4-8736-8939A9D6382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C99548-E735-4CD7-BC6C-CDCF36A5FBF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828800" y="1832040"/>
            <a:ext cx="5486040" cy="3962160"/>
          </a:xfrm>
          <a:prstGeom prst="rect">
            <a:avLst/>
          </a:prstGeom>
          <a:solidFill>
            <a:srgbClr val="69676d"/>
          </a:solidFill>
          <a:ln cap="sq" w="44280">
            <a:solidFill>
              <a:srgbClr val="ffffff"/>
            </a:solidFill>
            <a:miter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Book Antiqua"/>
              </a:rPr>
              <a:t>Click icon to add pict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029578-C384-4A2E-93AA-D4B69928BB7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0D2DA8-6704-4C52-8E9F-3F166113CD5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2362320"/>
            <a:ext cx="4039920" cy="37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645080" y="2362320"/>
            <a:ext cx="4041360" cy="37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8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8FF4B1-165A-47DB-898C-3AD62D1E8DF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4FC3C-769C-4008-B9D5-8FE0A1BBFE4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mory University Hospital</a:t>
            </a:r>
            <a:br>
              <a:rPr sz="4100"/>
            </a:br>
            <a:r>
              <a:rPr b="1" lang="en-US" sz="3300" spc="-1" strike="noStrike">
                <a:solidFill>
                  <a:srgbClr val="de0000"/>
                </a:solidFill>
                <a:latin typeface="Albertus Extra Bold"/>
              </a:rPr>
              <a:t>Emergency Department Field Observ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Content Placeholder 6" descr="EUH.jpg"/>
          <p:cNvPicPr/>
          <p:nvPr/>
        </p:nvPicPr>
        <p:blipFill>
          <a:blip r:embed="rId1"/>
          <a:stretch/>
        </p:blipFill>
        <p:spPr>
          <a:xfrm>
            <a:off x="380880" y="1523880"/>
            <a:ext cx="4723920" cy="4495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60" name="TextBox 7"/>
          <p:cNvSpPr/>
          <p:nvPr/>
        </p:nvSpPr>
        <p:spPr>
          <a:xfrm>
            <a:off x="5029200" y="2438280"/>
            <a:ext cx="3962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Friday 9.12.08:  8pm-11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Saturday 9.20.08:  8am-12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Monday 9.22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638680" y="3809880"/>
            <a:ext cx="2819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chemeClr val="accent1">
                    <a:lumMod val="60000"/>
                    <a:lumOff val="40000"/>
                  </a:schemeClr>
                </a:solidFill>
                <a:uFillTx/>
                <a:latin typeface="Lucida Sans"/>
              </a:rPr>
              <a:t>Group 7 Me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Kelly Bao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Denis M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Lucida Sans"/>
              </a:rPr>
              <a:t>Girish Venkat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YXIS MedStation</a:t>
            </a:r>
            <a:br>
              <a:rPr sz="41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utomated Medication Management Technolog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Content Placeholder 11" descr="DSC00038.JPG"/>
          <p:cNvPicPr/>
          <p:nvPr/>
        </p:nvPicPr>
        <p:blipFill>
          <a:blip r:embed="rId1"/>
          <a:stretch/>
        </p:blipFill>
        <p:spPr>
          <a:xfrm>
            <a:off x="2806920" y="1600200"/>
            <a:ext cx="3530160" cy="47080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20" name="PlaceHolder 2"/>
          <p:cNvSpPr>
            <a:spLocks noGrp="1"/>
          </p:cNvSpPr>
          <p:nvPr>
            <p:ph type="dt" idx="4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4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9F269F-CCA4-4D7B-BB29-632D95732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ight Arrow 6"/>
          <p:cNvSpPr/>
          <p:nvPr/>
        </p:nvSpPr>
        <p:spPr>
          <a:xfrm>
            <a:off x="2133720" y="5105520"/>
            <a:ext cx="5331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164880" y="5105520"/>
            <a:ext cx="214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XIS: Narc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ccount for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ight Arrow 8"/>
          <p:cNvSpPr/>
          <p:nvPr/>
        </p:nvSpPr>
        <p:spPr>
          <a:xfrm flipH="1">
            <a:off x="6476400" y="3124080"/>
            <a:ext cx="5331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7096680" y="3048120"/>
            <a:ext cx="158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narc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2 - “I Still Haven’t Found What I’m Looking For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Content Placeholder 6" descr="DSC00041.JPG"/>
          <p:cNvPicPr/>
          <p:nvPr/>
        </p:nvPicPr>
        <p:blipFill>
          <a:blip r:embed="rId1"/>
          <a:stretch/>
        </p:blipFill>
        <p:spPr>
          <a:xfrm>
            <a:off x="778320" y="1600200"/>
            <a:ext cx="3396240" cy="45255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29" name="Content Placeholder 9" descr="DSC00042.JPG"/>
          <p:cNvPicPr/>
          <p:nvPr/>
        </p:nvPicPr>
        <p:blipFill>
          <a:blip r:embed="rId2"/>
          <a:stretch/>
        </p:blipFill>
        <p:spPr>
          <a:xfrm>
            <a:off x="4800600" y="2438280"/>
            <a:ext cx="3657240" cy="274284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30" name="PlaceHolder 2"/>
          <p:cNvSpPr>
            <a:spLocks noGrp="1"/>
          </p:cNvSpPr>
          <p:nvPr>
            <p:ph type="dt" idx="49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5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67BB0F-0FE0-495F-8621-2A8E4F6453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5257800" y="2362320"/>
            <a:ext cx="2514240" cy="15235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4" name="Oval 13"/>
          <p:cNvSpPr/>
          <p:nvPr/>
        </p:nvSpPr>
        <p:spPr>
          <a:xfrm>
            <a:off x="7772400" y="3352680"/>
            <a:ext cx="685440" cy="53316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5" name="Oval 14"/>
          <p:cNvSpPr/>
          <p:nvPr/>
        </p:nvSpPr>
        <p:spPr>
          <a:xfrm>
            <a:off x="6858000" y="4343400"/>
            <a:ext cx="533160" cy="3805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6631920" y="1676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7851240" y="19051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7012800" y="54100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9"/>
          <p:cNvCxnSpPr/>
          <p:nvPr/>
        </p:nvCxnSpPr>
        <p:spPr>
          <a:xfrm flipH="1">
            <a:off x="6780960" y="2058120"/>
            <a:ext cx="1800" cy="2289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40" name="Straight Arrow Connector 22"/>
          <p:cNvCxnSpPr/>
          <p:nvPr/>
        </p:nvCxnSpPr>
        <p:spPr>
          <a:xfrm flipH="1">
            <a:off x="7999920" y="2286720"/>
            <a:ext cx="2160" cy="9907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41" name="Straight Arrow Connector 25"/>
          <p:cNvCxnSpPr>
            <a:stCxn id="338" idx="0"/>
          </p:cNvCxnSpPr>
          <p:nvPr/>
        </p:nvCxnSpPr>
        <p:spPr>
          <a:xfrm flipH="1" flipV="1">
            <a:off x="7162560" y="4800240"/>
            <a:ext cx="4320" cy="6102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pace Utiliza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Content Placeholder 5" descr="DSC00031.JPG"/>
          <p:cNvPicPr/>
          <p:nvPr/>
        </p:nvPicPr>
        <p:blipFill>
          <a:blip r:embed="rId1"/>
          <a:stretch/>
        </p:blipFill>
        <p:spPr>
          <a:xfrm>
            <a:off x="380880" y="1981080"/>
            <a:ext cx="4368600" cy="335232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5" descr="DSC00030.JPG"/>
          <p:cNvPicPr/>
          <p:nvPr/>
        </p:nvPicPr>
        <p:blipFill>
          <a:blip r:embed="rId2"/>
          <a:stretch/>
        </p:blipFill>
        <p:spPr>
          <a:xfrm>
            <a:off x="434340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 type="dt" idx="52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5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207E29-5C9F-4ABA-9CB0-F4EEA562A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411840" y="5562720"/>
            <a:ext cx="539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ther hall in the 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patient rooms, but less noise and less crow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10"/>
          <p:cNvSpPr/>
          <p:nvPr/>
        </p:nvSpPr>
        <p:spPr>
          <a:xfrm>
            <a:off x="457200" y="2438280"/>
            <a:ext cx="1904760" cy="761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921600" y="1295280"/>
            <a:ext cx="101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14"/>
          <p:cNvSpPr/>
          <p:nvPr/>
        </p:nvSpPr>
        <p:spPr>
          <a:xfrm>
            <a:off x="4267080" y="2590920"/>
            <a:ext cx="914040" cy="685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352" name="Straight Connector 20"/>
          <p:cNvCxnSpPr>
            <a:stCxn id="350" idx="3"/>
          </p:cNvCxnSpPr>
          <p:nvPr/>
        </p:nvCxnSpPr>
        <p:spPr>
          <a:xfrm>
            <a:off x="1945440" y="1479960"/>
            <a:ext cx="2626920" cy="4428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353" name="Straight Arrow Connector 24"/>
          <p:cNvCxnSpPr/>
          <p:nvPr/>
        </p:nvCxnSpPr>
        <p:spPr>
          <a:xfrm flipH="1">
            <a:off x="4570920" y="1523880"/>
            <a:ext cx="1440" cy="9154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54" name="Straight Arrow Connector 25"/>
          <p:cNvCxnSpPr/>
          <p:nvPr/>
        </p:nvCxnSpPr>
        <p:spPr>
          <a:xfrm flipH="1">
            <a:off x="1371600" y="1676160"/>
            <a:ext cx="1800" cy="6861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bile Car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Content Placeholder 7" descr="DSC00048.JPG"/>
          <p:cNvPicPr/>
          <p:nvPr/>
        </p:nvPicPr>
        <p:blipFill>
          <a:blip r:embed="rId1"/>
          <a:stretch/>
        </p:blipFill>
        <p:spPr>
          <a:xfrm>
            <a:off x="380880" y="1981080"/>
            <a:ext cx="4495320" cy="337140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57" name="Content Placeholder 8" descr="DSC00051.JPG"/>
          <p:cNvPicPr/>
          <p:nvPr/>
        </p:nvPicPr>
        <p:blipFill>
          <a:blip r:embed="rId2"/>
          <a:stretch/>
        </p:blipFill>
        <p:spPr>
          <a:xfrm>
            <a:off x="5029200" y="1295280"/>
            <a:ext cx="3657240" cy="48765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58" name="PlaceHolder 2"/>
          <p:cNvSpPr>
            <a:spLocks noGrp="1"/>
          </p:cNvSpPr>
          <p:nvPr>
            <p:ph type="dt" idx="55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5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A7FB60-5C5C-46F5-AE16-18E942B3BBF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5791320" y="2743200"/>
            <a:ext cx="1142640" cy="45684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5867280" y="1905120"/>
            <a:ext cx="456840" cy="60912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6338880" y="2133720"/>
            <a:ext cx="219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N strategic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502960" y="3276720"/>
            <a:ext cx="2488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ergency depar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aster C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age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149480" y="541008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YN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4"/>
          <p:cNvSpPr/>
          <p:nvPr/>
        </p:nvSpPr>
        <p:spPr>
          <a:xfrm>
            <a:off x="3206880" y="5410080"/>
            <a:ext cx="112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ress Reduc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58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6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B1988-9F0B-4D5A-9496-F47AFD5A3DE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57200" y="1676520"/>
            <a:ext cx="81529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48640" indent="-4114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 algn="just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 “</a:t>
            </a:r>
            <a:r>
              <a:rPr b="1" i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Impacts of stress and stress related illness in the emergency room is an issue of high concern. It has been researched that a good number of the nurses, doctors and the family members of admitted patients in the ER are prone to stress related illness.</a:t>
            </a:r>
            <a:r>
              <a:rPr b="1" lang="en-US" sz="26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36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bservat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29000" y="1219320"/>
            <a:ext cx="54097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Stress due to design of buildin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0’s Desig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rrow Walk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athroom Acces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gh Noise Level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80000"/>
              </a:lnSpc>
              <a:spcBef>
                <a:spcPts val="281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White noise instruments did not work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Critical Incidents due to stres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ecurity personn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 incidents in 6 month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Patient Stres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eels ignored when alon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eeping on monitor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Staff Stress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reak room less equipped and far off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80000"/>
              </a:lnSpc>
              <a:spcBef>
                <a:spcPts val="32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ndles 4 patients each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28600" y="1143000"/>
            <a:ext cx="3123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Stress Induced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Improper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No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Priv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1">
                    <a:lumMod val="40000"/>
                    <a:lumOff val="60000"/>
                  </a:schemeClr>
                </a:solidFill>
                <a:latin typeface="Book Antiqua"/>
              </a:rPr>
              <a:t>Mor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Connector 5"/>
          <p:cNvCxnSpPr/>
          <p:nvPr/>
        </p:nvCxnSpPr>
        <p:spPr>
          <a:xfrm>
            <a:off x="3429000" y="1295280"/>
            <a:ext cx="360" cy="5258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Wherever the art of </a:t>
            </a:r>
            <a:r>
              <a:rPr b="1" lang="en-US" sz="3000" spc="-1" strike="noStrike">
                <a:solidFill>
                  <a:srgbClr val="ff0000"/>
                </a:solidFill>
                <a:latin typeface="Lucida Sans"/>
              </a:rPr>
              <a:t>medicine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 is loved, there is also a love of </a:t>
            </a:r>
            <a:r>
              <a:rPr b="1" lang="en-US" sz="3000" spc="-1" strike="noStrike">
                <a:solidFill>
                  <a:srgbClr val="ff0000"/>
                </a:solidFill>
                <a:latin typeface="Lucida Sans"/>
              </a:rPr>
              <a:t>humanity</a:t>
            </a: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” - Hippocr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Content Placeholder 4" descr="DSC00044.JPG"/>
          <p:cNvPicPr/>
          <p:nvPr/>
        </p:nvPicPr>
        <p:blipFill>
          <a:blip r:embed="rId1"/>
          <a:stretch/>
        </p:blipFill>
        <p:spPr>
          <a:xfrm>
            <a:off x="2857680" y="1668600"/>
            <a:ext cx="3428640" cy="4571640"/>
          </a:xfrm>
          <a:prstGeom prst="rect">
            <a:avLst/>
          </a:prstGeom>
          <a:ln w="76200">
            <a:solidFill>
              <a:srgbClr val="ffffff"/>
            </a:solidFill>
            <a:round/>
          </a:ln>
        </p:spPr>
      </p:pic>
      <p:sp>
        <p:nvSpPr>
          <p:cNvPr id="378" name="PlaceHolder 2"/>
          <p:cNvSpPr>
            <a:spLocks noGrp="1"/>
          </p:cNvSpPr>
          <p:nvPr>
            <p:ph type="dt" idx="6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6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6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A20D7B-2FD7-4B1B-9CF7-CF12E6947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dt" idx="6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6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F77162-1B6A-40D3-B8B4-768AC2FAF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57320" cy="4200120"/>
          </a:xfrm>
          <a:prstGeom prst="rect">
            <a:avLst/>
          </a:prstGeom>
          <a:ln w="9525">
            <a:noFill/>
          </a:ln>
        </p:spPr>
      </p:pic>
      <p:sp>
        <p:nvSpPr>
          <p:cNvPr id="385" name="TextBox 10"/>
          <p:cNvSpPr/>
          <p:nvPr/>
        </p:nvSpPr>
        <p:spPr>
          <a:xfrm>
            <a:off x="406440" y="1676520"/>
            <a:ext cx="51249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NTA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Kelly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tg552y@mail.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Girish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venk@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chemeClr val="accent4">
                    <a:lumMod val="75000"/>
                  </a:schemeClr>
                </a:solidFill>
                <a:latin typeface="Arial"/>
              </a:rPr>
              <a:t>Denis 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masse3@mail.gatech.e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ow to get to Emory’s ED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Content Placeholder 4" descr="DSC00015.JPG"/>
          <p:cNvPicPr/>
          <p:nvPr/>
        </p:nvPicPr>
        <p:blipFill>
          <a:blip r:embed="rId1"/>
          <a:stretch/>
        </p:blipFill>
        <p:spPr>
          <a:xfrm>
            <a:off x="304920" y="1828800"/>
            <a:ext cx="4165200" cy="3123720"/>
          </a:xfrm>
          <a:prstGeom prst="rect">
            <a:avLst/>
          </a:prstGeom>
          <a:ln w="19050">
            <a:solidFill>
              <a:srgbClr val="ffffff"/>
            </a:solidFill>
            <a:round/>
          </a:ln>
          <a:effectLst>
            <a:outerShdw algn="ctr" blurRad="50760" dir="5400000" dist="50760" rotWithShape="0" sx="20000" sy="20000">
              <a:srgbClr val="000000">
                <a:alpha val="43000"/>
              </a:srgbClr>
            </a:outerShdw>
          </a:effectLst>
        </p:spPr>
      </p:pic>
      <p:pic>
        <p:nvPicPr>
          <p:cNvPr id="264" name="Picture Placeholder 4" descr="DSC00017.JPG"/>
          <p:cNvPicPr/>
          <p:nvPr/>
        </p:nvPicPr>
        <p:blipFill>
          <a:blip r:embed="rId2"/>
          <a:stretch/>
        </p:blipFill>
        <p:spPr>
          <a:xfrm>
            <a:off x="4648320" y="1828800"/>
            <a:ext cx="4165200" cy="312372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65" name="PlaceHolder 2"/>
          <p:cNvSpPr>
            <a:spLocks noGrp="1"/>
          </p:cNvSpPr>
          <p:nvPr>
            <p:ph type="dt" idx="22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315C36-449F-4094-B2EC-57617C213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358920" y="5181480"/>
            <a:ext cx="408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Open 24 hours a day, 7 days a week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,000 patient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5802840" y="5105520"/>
            <a:ext cx="2174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1364 Clifton Rd.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Atlanta, GA. 30320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(404) 712-7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e’re almost there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Content Placeholder 7" descr="DSC00016.JPG"/>
          <p:cNvPicPr/>
          <p:nvPr/>
        </p:nvPicPr>
        <p:blipFill>
          <a:blip r:embed="rId1"/>
          <a:stretch/>
        </p:blipFill>
        <p:spPr>
          <a:xfrm>
            <a:off x="380880" y="1752480"/>
            <a:ext cx="4134600" cy="31006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272" name="Content Placeholder 8" descr="DSC00019.JPG"/>
          <p:cNvPicPr/>
          <p:nvPr/>
        </p:nvPicPr>
        <p:blipFill>
          <a:blip r:embed="rId2"/>
          <a:stretch/>
        </p:blipFill>
        <p:spPr>
          <a:xfrm>
            <a:off x="4724280" y="1752480"/>
            <a:ext cx="4152600" cy="31143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73" name="PlaceHolder 2"/>
          <p:cNvSpPr>
            <a:spLocks noGrp="1"/>
          </p:cNvSpPr>
          <p:nvPr>
            <p:ph type="dt" idx="25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864582-CF72-4297-BFA9-A198AE832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1457280" y="5029200"/>
            <a:ext cx="14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et p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5953680" y="5029200"/>
            <a:ext cx="17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or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Waiting Room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Content Placeholder 7" descr="DSC00014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752480" y="205740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24816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n get very crowde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 separate area for children or those with severe acuity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28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F68CC5-8C6C-413A-885E-4D6B79D52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et’s Get Treated!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Content Placeholder 8" descr="DSC00020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828800" y="198108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door the patient has to go through before reaching a health care professional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3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932874-63C5-4989-BAF2-7D3786295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3da8c"/>
                </a:solidFill>
                <a:latin typeface="Lucida Sans"/>
              </a:rPr>
              <a:t>The Hall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007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StarSymbo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lway width  is a rough equivalent of two hallway be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EMS service comes in from the bac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Critical care room place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- Centralization of doctors &amp; nurse at one st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2" name="Picture Placeholder 11" descr="DSC00024.JPG"/>
          <p:cNvPicPr/>
          <p:nvPr/>
        </p:nvPicPr>
        <p:blipFill>
          <a:blip r:embed="rId1"/>
          <a:stretch/>
        </p:blipFill>
        <p:spPr>
          <a:xfrm>
            <a:off x="4038480" y="457200"/>
            <a:ext cx="4389480" cy="585288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293" name="PlaceHolder 3"/>
          <p:cNvSpPr>
            <a:spLocks noGrp="1"/>
          </p:cNvSpPr>
          <p:nvPr>
            <p:ph type="dt" idx="3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1CB2B7-A64C-4659-99D2-B6F9A2FA4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Hallway Bed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Content Placeholder 4" descr="DSC00046.JPG"/>
          <p:cNvPicPr/>
          <p:nvPr/>
        </p:nvPicPr>
        <p:blipFill>
          <a:blip r:embed="rId1"/>
          <a:srcRect l="0" t="1853" r="0" b="1853"/>
          <a:stretch/>
        </p:blipFill>
        <p:spPr>
          <a:xfrm>
            <a:off x="1828800" y="198108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tient’s vital signs can be monitore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re is no privacy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3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3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22EB8-DD27-480A-B721-283747E36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Doctor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Content Placeholder 11" descr="DSC00022.JPG"/>
          <p:cNvPicPr/>
          <p:nvPr/>
        </p:nvPicPr>
        <p:blipFill>
          <a:blip r:embed="rId1"/>
          <a:stretch/>
        </p:blipFill>
        <p:spPr>
          <a:xfrm>
            <a:off x="457200" y="2286000"/>
            <a:ext cx="4023000" cy="30171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04" name="Content Placeholder 12" descr="DSC00033.JPG"/>
          <p:cNvPicPr/>
          <p:nvPr/>
        </p:nvPicPr>
        <p:blipFill>
          <a:blip r:embed="rId2"/>
          <a:stretch/>
        </p:blipFill>
        <p:spPr>
          <a:xfrm>
            <a:off x="4645800" y="2286000"/>
            <a:ext cx="4023000" cy="30171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05" name="PlaceHolder 2"/>
          <p:cNvSpPr>
            <a:spLocks noGrp="1"/>
          </p:cNvSpPr>
          <p:nvPr>
            <p:ph type="dt" idx="4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4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EF42D-D221-4B6D-A066-F777EC9E2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922680" y="1684080"/>
            <a:ext cx="29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up a patient - E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4888800" y="1684080"/>
            <a:ext cx="345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king to Radiology/Surgery/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he Nurs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Content Placeholder 4" descr="DSC00036.JPG"/>
          <p:cNvPicPr/>
          <p:nvPr/>
        </p:nvPicPr>
        <p:blipFill>
          <a:blip r:embed="rId1"/>
          <a:stretch/>
        </p:blipFill>
        <p:spPr>
          <a:xfrm>
            <a:off x="533520" y="1828800"/>
            <a:ext cx="4541040" cy="340560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312" name="Content Placeholder 8" descr="DSC00027.JPG"/>
          <p:cNvPicPr/>
          <p:nvPr/>
        </p:nvPicPr>
        <p:blipFill>
          <a:blip r:embed="rId2"/>
          <a:stretch/>
        </p:blipFill>
        <p:spPr>
          <a:xfrm>
            <a:off x="5257800" y="1295280"/>
            <a:ext cx="3316320" cy="44193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sp>
        <p:nvSpPr>
          <p:cNvPr id="313" name="PlaceHolder 2"/>
          <p:cNvSpPr>
            <a:spLocks noGrp="1"/>
          </p:cNvSpPr>
          <p:nvPr>
            <p:ph type="dt" idx="4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2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, Masse, Venkat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4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8B68BF-A6B1-4A7A-8B76-6B78F6A16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621720" y="5410080"/>
            <a:ext cx="189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ora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5348880" y="5791320"/>
            <a:ext cx="254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ing the mobile c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624</TotalTime>
  <Application>LibreOffice/7.4.7.2$Linux_X86_64 LibreOffice_project/40$Build-2</Application>
  <AppVersion>15.0000</AppVersion>
  <Words>481</Words>
  <Paragraphs>139</Paragraphs>
  <Company>Emory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3:05:54Z</dcterms:created>
  <dc:creator>My Ngoc</dc:creator>
  <dc:description/>
  <dc:language>en-US</dc:language>
  <cp:lastModifiedBy>jbeach</cp:lastModifiedBy>
  <dcterms:modified xsi:type="dcterms:W3CDTF">2008-09-23T18:09:06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